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6.wmf" ContentType="image/x-wmf"/>
  <Override PartName="/ppt/media/image7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1B81-9C49-4891-B7DF-2A5DAA970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4424-4175-4E0E-A42F-ED2EEB416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874F-7EC6-4A0F-88C8-8F476D061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FBED-3743-45B0-92C3-CF86D26E5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3E91-5EFC-4ED4-82A8-810C88FBA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3F06-D1E2-4C83-98AE-D976EB813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2D23-D0EF-4FEF-B657-D5B71E786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CCDA-878B-4C0B-A0B5-87483555E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079D-F56E-4156-8A92-7AE47D1DF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535A-747B-462E-8F95-BCF5ECB42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AC82-0EE5-4C4E-B438-29786951E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3E7F-E7AF-4A1C-B8F4-B502D54CB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03CA-83E6-43F1-AF76-C524602B0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A48A-2B24-4FEA-A68B-CFD09D088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29A3-839B-4C23-B755-693CF8B33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8F57-BC44-48E0-9FE6-561A9209B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D01A-D105-48EA-AC61-09CAE7D7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1250-5224-46D3-BF37-C504AFC9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AF8-0EAA-4107-B8CA-8BBB990E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C12-F012-4AC7-8380-EAFDD759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327-C330-408B-ABBD-D6C38F3A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36C-7A66-45EC-82AC-302AD926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5FF9-2336-49E7-8C0D-080FFA08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AA2B-8F34-4CBA-9039-47E89E87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3890-46BD-4257-88B2-7E2A613C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2D2-FA01-47B0-8803-249CF8EE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3C8-92A3-4E03-B996-ACDD5DE8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396-3FBF-4840-A9B8-7699290B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06AB-F586-4A1F-A596-64829E743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s and Kingd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rchaea, Bacteria, Eukar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ist, Fungi,Plant,An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. Wagenborg 7th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: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erform photosynthesis and do not eat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res Absorb nutrients from their surroundings and juices break down the substances for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d fungi are pois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hrooms,  mol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ld bread or cheese)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t fun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imgres.jpg"/>
          <p:cNvPicPr/>
          <p:nvPr/>
        </p:nvPicPr>
        <p:blipFill>
          <a:blip r:embed="rId1"/>
          <a:stretch/>
        </p:blipFill>
        <p:spPr>
          <a:xfrm>
            <a:off x="685800" y="4648320"/>
            <a:ext cx="3492360" cy="1577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images.jpg"/>
          <p:cNvPicPr/>
          <p:nvPr/>
        </p:nvPicPr>
        <p:blipFill>
          <a:blip r:embed="rId2"/>
          <a:stretch/>
        </p:blipFill>
        <p:spPr>
          <a:xfrm>
            <a:off x="4648320" y="4419720"/>
            <a:ext cx="3492360" cy="184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imgres.jpg"/>
          <p:cNvPicPr/>
          <p:nvPr/>
        </p:nvPicPr>
        <p:blipFill>
          <a:blip r:embed="rId3"/>
          <a:stretch/>
        </p:blipFill>
        <p:spPr>
          <a:xfrm>
            <a:off x="685800" y="1981080"/>
            <a:ext cx="3479760" cy="2116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imgres.jpg"/>
          <p:cNvPicPr/>
          <p:nvPr/>
        </p:nvPicPr>
        <p:blipFill>
          <a:blip r:embed="rId4"/>
          <a:stretch/>
        </p:blipFill>
        <p:spPr>
          <a:xfrm>
            <a:off x="4724280" y="1981080"/>
            <a:ext cx="34927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: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cell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food through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kingdoms depend on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ood/nutrients for the other kingd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habitats for other kingd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es, roses, sunflowers, fern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6629400" y="1981080"/>
            <a:ext cx="181620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4191120" y="3809880"/>
            <a:ext cx="1726920" cy="2032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images.jpg"/>
          <p:cNvPicPr/>
          <p:nvPr/>
        </p:nvPicPr>
        <p:blipFill>
          <a:blip r:embed="rId3"/>
          <a:stretch/>
        </p:blipFill>
        <p:spPr>
          <a:xfrm>
            <a:off x="660240" y="2892600"/>
            <a:ext cx="3289320" cy="24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: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d sense organs-able to respond to thei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le to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 on plants for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 on bacteria and fungi to recycle nutrients in dead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dog, eagle, turtle, sponge(ca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move but ca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make its own f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24480" y="2971800"/>
            <a:ext cx="1435320" cy="151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6019920" y="4952880"/>
            <a:ext cx="1625400" cy="107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1066680" y="3048120"/>
            <a:ext cx="1625760" cy="107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4"/>
          <a:stretch/>
        </p:blipFill>
        <p:spPr>
          <a:xfrm>
            <a:off x="3429000" y="2971800"/>
            <a:ext cx="1816200" cy="1359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5"/>
          <a:stretch/>
        </p:blipFill>
        <p:spPr>
          <a:xfrm>
            <a:off x="1371600" y="4648320"/>
            <a:ext cx="19051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ges in the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181480" y="3352680"/>
            <a:ext cx="161316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1905120" y="3352680"/>
            <a:ext cx="2590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Archa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up entirely of Archa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(Single Cell,No Nucle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aea means ancient- has survived for a lo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extreme environments-the hottest of the hot (hot springs), the coldest of the cold (deep oce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1981080" y="3124080"/>
            <a:ext cx="22100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Yellowstone National Park (Old Faithful Hot Sp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The Dead Sea (High Salt Lev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swamps and soils (High Amounts of Methane G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up entirely of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(single cell,no nucle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humans, soil a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kind-turns milk into yogurt, helps with digestion in the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kind-causes pneumonia, sickness and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 coli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d bacteria in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2476800" cy="2895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3378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Euk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rganisms that contain cells with a nucleus and orga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the Kingdoms: Protists, Funji, Plant and An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: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ms that cannot fit into any other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d from bacteria and evolved into plants,fungi 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g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ink about fish tanks and poo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me m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ae             Kelp               Water 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6400800" y="2819520"/>
            <a:ext cx="1676520" cy="213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180324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imgres.jpg"/>
          <p:cNvPicPr/>
          <p:nvPr/>
        </p:nvPicPr>
        <p:blipFill>
          <a:blip r:embed="rId3"/>
          <a:stretch/>
        </p:blipFill>
        <p:spPr>
          <a:xfrm>
            <a:off x="2743200" y="274320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3:38:56Z</dcterms:created>
  <dc:creator>School District of Philadelphia</dc:creator>
  <dc:description/>
  <dc:language>en-US</dc:language>
  <cp:lastModifiedBy>William Wagenborg</cp:lastModifiedBy>
  <dcterms:modified xsi:type="dcterms:W3CDTF">2015-10-06T16:29:19Z</dcterms:modified>
  <cp:revision>19</cp:revision>
  <dc:subject/>
  <dc:title>Six Kingdoms</dc:title>
</cp:coreProperties>
</file>